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7D42-40AE-4A3F-97DD-DB9FEF3D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5FD-F1D4-4AF6-85FB-C9ABA8F1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4B9-75AE-48DC-9927-A6AC6EBC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01D-4682-4187-AF02-D8A680F2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35BB-3079-4B13-B090-C1478213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7FE7-4D7E-4ED1-9693-12527CD4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DC65-4DDC-477E-A93E-A7E73438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F60A-E505-469F-8BCB-1109BBD8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65DA-8447-4682-A7EB-4BDDCD4B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A71D-23EF-4D66-A6BF-14929FA6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13D9-BDC1-4DA4-B526-5F372E9B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5BA-CE30-44C0-8F9C-7F5CA40D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E2B6-BE13-4DA6-A8F4-6A17F192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E298-7675-46F9-9949-59E0EECB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06B9-8984-42EF-B808-4F7378A6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EE6D-517F-464C-8D6F-22B30666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2664-12DA-4079-8E1F-1C5DE37B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E61F-5EA2-471D-A223-3687DDAC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C600-9F52-40DF-A6A6-8ECF7D7D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33C6-0B64-41A3-9ED9-71B0E04B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4D91-7CD8-47E1-ADF3-799D4A99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1BD-3865-44B4-95F4-3894441B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AF3-F471-40C7-AB08-3D709BA3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B8D-AE0B-48A1-93DA-C665D4F6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4AA5-D280-46A1-B128-EB8DC5B59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2DFC-1036-4CCB-B975-F7B4B3196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Light Up the World</a:t>
            </a:r>
            <a:br>
              <a:rPr sz="44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A vocabulary game from Mentoring Minds</a:t>
            </a:r>
            <a:br>
              <a:rPr sz="1800"/>
            </a:br>
            <a:r>
              <a:rPr b="0" lang="en-US" sz="1800" spc="-1" strike="noStrike">
                <a:solidFill>
                  <a:srgbClr val="666633"/>
                </a:solidFill>
                <a:latin typeface="Times New Roman"/>
              </a:rPr>
              <a:t>Grades 1-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dark room with a flashlight to get your students “lighting up” their vocabulary knowled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Light Up the Worl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out your flashlight and darken your ro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ne the light on a vocabulary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reads the word.  The teacher sweeps the room with the flashlight and the students repeat the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 shines the light on one student, the student gives the defini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"/>
              </a:rPr>
              <a:t>Vari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this with two teams.  Points for correct use in a sentence, or the correct 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he flashlight to a student who answers correctly to let them select the next w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3:57:35Z</dcterms:created>
  <dc:creator>Ann Weeks</dc:creator>
  <dc:description/>
  <dc:language>en-US</dc:language>
  <cp:lastModifiedBy>Ann Weeks</cp:lastModifiedBy>
  <dcterms:modified xsi:type="dcterms:W3CDTF">2008-06-29T14:07:30Z</dcterms:modified>
  <cp:revision>1</cp:revision>
  <dc:subject/>
  <dc:title>Light Up the World A vocabulary game from Mentoring Minds Grades 1-4</dc:title>
</cp:coreProperties>
</file>